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B35314-097F-4442-B603-211B1457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07F18E-7AA2-4814-8571-E5B2A48D10D8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99F752-4A98-4E8F-BDAB-873B244EAB3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AFAF53-9018-4503-B374-4BD41B70C9BF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C9BE42-1C36-4BE6-92BA-4F39D840E80C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246ECC-E323-4401-A5CC-A6DBB437DF32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84BB50-8293-4CFB-87F6-B9BD1A0DDE0E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8B8541-E386-4E66-BA62-E05CF92DC389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7CCEEE-1624-4EBF-B4F8-58AEE1722E3A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8B8DED-D04B-4D48-A8EE-604A31B2E1B1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2660C7-B8DA-4C69-8021-82B9EA65BFD6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BEB708-C33E-436C-97EF-8F904810F5AD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8E5B0D-066B-4BB4-B866-FB227BC29AA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5A5019-CD01-4B63-901E-E496D8032799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0C4C1A-05C8-4E01-8677-E740849B6B71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006-6270-4DD2-863E-A602D3BD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EE9-1CD3-4883-84E6-4183A3C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68C2-EB69-417E-803B-6E49BDB9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18B-DF4B-4AA2-A3F8-4874E053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BB6A-0F3F-4DA1-8B18-85B96D40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7C9B-277A-4746-8584-24AED9E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635-B788-4FAC-B8FA-9AAD9B9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4F1-A9F0-402D-B4C9-8B4554A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DC4-AD23-4B19-9E3E-0065316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FCAA-6F81-44F1-84BB-245C3E7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4A23-BDBE-4FFB-8DF5-AE9812F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00C-BA55-4B8D-ACB7-6FD4DFD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CA1A-958A-4975-9D94-8C61CD3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F8F-C5C6-4D54-A9CC-55EAF243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91F-5155-433C-A1B3-8F98504E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B095-F6F3-46F4-936E-8871926A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666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414-28E9-463A-9D1D-DEB2493A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A22-695F-4BEF-BD55-F18775D6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DC6-D626-48DC-8B35-11A861F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411-5F64-4287-B7F5-8EE2FEAC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DFE-7D3C-4C86-A5E1-0A623692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080-2C5F-40E5-8316-B9D1F68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666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0A3-7DD6-4B85-8E6F-A264982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7B5-7BFA-446E-80B4-FC6D55CD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71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1E20-3CE1-4D1F-86FC-0106B7D83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810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91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7C6-889D-4FE3-81A2-64237F0C3B34}" type="slidenum"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 Black"/>
              </a:rPr>
              <a:t>Differentiated Instruction</a:t>
            </a:r>
            <a:endParaRPr b="0" lang="en-US" sz="32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thinking Our Classroom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 Black"/>
              </a:rPr>
              <a:t>10 Approaches to Avoid When Differentiating Assessment and Grading</a:t>
            </a:r>
            <a:endParaRPr b="0" lang="en-US" sz="28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nacademic Facto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ultiple Attemp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ithholding Assist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n-accurate indication of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xtra credit and bonus poin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oup Gr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ading Curv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Zero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 terms for criterion-referenced attribut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Nonacademic Factor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incorporating nonacademic factors, such as behavior, attendance, effort, into the final grade.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rticipation – “on route to mastery”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bjective grading of effort and behavior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Multiple Attempt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penalizing students’ multiple attempts at mastery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rachute Packing Sch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Homework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ading practice (homework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mework is never to learn material the first time aroun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on’t or can’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d homewor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ithholding Assistanc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withholding assistance (not scaffolding or differentiating) with the learning when it’s need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orting graphic organizers, notes, etc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lgebra teach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Extra Credit and Bonus Points</a:t>
            </a:r>
            <a:endParaRPr b="0" lang="en-US" sz="36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allowing extra credit and bonus points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chievement, competency,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oup Grad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oup Grad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 student achieve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erc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healthy peer press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ading Curve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Grading on a Curv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proverbial bel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 reference to maste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ndings not standard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torting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Zero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Recording Zeros for Work Not D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kew the grad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essens the usefulness of the grad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 Black"/>
              </a:rPr>
              <a:t>Norm-referenced Terms for Criterion-referenced Attributes</a:t>
            </a:r>
            <a:endParaRPr b="0" lang="en-US" sz="32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void Using Norm-Referenced Terms to Describe Criterion-Referenced Attribut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Norm-Referenced v. Criterion-Reference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Objectives…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AF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ub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Jigsaw Activit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iered Assign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Six Burning Issu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Gifted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eighting Grad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utomaticity Versus Concept Attainmen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Late Work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rading Special Needs Students in Inclusion Class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structional Strategy that is differentiated usually by readiness level.  Students work with essential knowledge, understanding, and skill but at levels of difficulty appropriately challenging for them as individuals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early establish standards/anchors, essential knowledge, understandings, and skil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 one activity or product assignment that is interesting and engaging and requires high level of thinking – start with an “advanced level activity” – likely to raise sights for other learn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udents are no better than the assignments that they are given…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termine students’ readiness levels based on pre-assessment, ongoing assessment, and basic knowledge of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velop several versions of the original task to address a range of learner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se “The Equalizer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he Equalizer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ndational to Transformation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ncrete to Abstrac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ngle facet to Multiple face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mall leap to Great lea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re structured to More op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Less independence to Greater independe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low to Qu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Tiered Lessons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ndards/Ancho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sential Understanding/Knowled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ssential Skil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ree T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ther Considerations…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ow are you going to determine group dynamic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ow are you going to asses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is homework going to look like following a tiered assignment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Classroom Instruction That Works</a:t>
            </a:r>
            <a:endParaRPr b="0" lang="en-US" sz="36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terest Surve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KW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earning Men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Understanding By Design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UBD – Understanding By Desig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 Backward Design Proc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1 – Identify Desired Result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2 – Determine Acceptable Evide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age 3 – Plan Learning Experiences and Instruc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352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1 – Identify Desired Result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tart with the end in mind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should students know, understand, and be able to do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is worthy of understanding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at enduring understandings are desired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2 – Determine Acceptable Evidenc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ow will we know if students have achieved the desired results and met the standards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at will we accept as evidence of student understanding and proficiency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RAFT Activities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ole, Audience, Format, Topi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udents take on a particular Role, develop a product for a particular Audience in a particular Format and on a Topic that gets right to the essential learnings and understandings in a particular unit of stud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fferentiated by…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adines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teres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arning Profi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 Black"/>
              </a:rPr>
              <a:t>Stage 3 – Plan Learning Experiences and Instruction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enabling knowledge (facts, concepts, and principles) and skills (procedures) will students need to perform effectively and achieve desired resul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activities will equip students with the needed knowledge and skil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will need to be taught and coached, and how should it best be taught, in light of performance goa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at materials and resources are best suited to accomplish these goal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s the overall design coherent and effective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Cubing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lanned for readiness, interest, or learning profil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tudents have op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f used as culminating activity – be sure to provide generic rubric for each side of cub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Jigsaw Activity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earning Center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ifferentiated Lectu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mpacting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Grading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y do we grade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lides and information on grading from – </a:t>
            </a:r>
            <a:r>
              <a:rPr b="0" i="1" lang="en-US" sz="2800" spc="-1" strike="noStrike">
                <a:solidFill>
                  <a:srgbClr val="336699"/>
                </a:solidFill>
                <a:latin typeface="Arial"/>
              </a:rPr>
              <a:t>Wormeli, Rick. Fair Isn’t Always Equal: Assessing and Grading in the Differentiated Classroom.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hy Do We Grade?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ocument student and teacher progr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vide feedback to the student and family, and the teach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form instructional decis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Why Do We Grade?</a:t>
            </a:r>
            <a:r>
              <a:rPr b="0" lang="en-US" sz="4000" spc="-1" strike="noStrike">
                <a:solidFill>
                  <a:srgbClr val="0066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Motivate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Punish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 Sort Stud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Grades as motivators breed dependence, reduce risk-taking, creativity and value. (Rick Stiggin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cc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 grade represents a clear and accurate indicator of what a student knows and is able to do – mastery.  With grades, we document the progress of what students and our teaching, we provide feedback to students and their parents, and we make instructional decisions regarding the students”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7:10:25Z</dcterms:created>
  <dc:creator>Philip J. Pockey</dc:creator>
  <dc:description/>
  <cp:keywords/>
  <dc:language>en-US</dc:language>
  <cp:lastModifiedBy>ccotner</cp:lastModifiedBy>
  <dcterms:modified xsi:type="dcterms:W3CDTF">2008-06-19T03:37:20Z</dcterms:modified>
  <cp:revision>11</cp:revision>
  <dc:subject/>
  <dc:title>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51033</vt:lpwstr>
  </property>
</Properties>
</file>